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C7C-4014-4A86-A266-9E8D77D3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F9D0-9F35-4DEC-84DE-DBC79115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B62-DE67-49A8-B324-7DA5013A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876-E5A6-4DDC-BAD5-7AFC300E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3C3-7A1A-4FED-8886-4C640679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B45-5439-4773-98B5-448AE046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B02-66BD-4A5A-A86D-60C84065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A5C-1789-4DAB-AA77-4A23A090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AAD-25C7-4826-8EF4-A55F1071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DD1-7AE7-481A-B62B-2CC58DB2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1F4-0050-48EE-94FD-1B38229F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698-9BDF-40EE-8A8D-C50EF475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9B24-7FF6-45DA-BBB8-CB4F58B219EC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Basiskurs H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daniel.bueche@kssg.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095480" y="1981080"/>
            <a:ext cx="6946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Entscheidungsfindung am Lebensend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Wahrh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Times New Roman"/>
              </a:rPr>
              <a:t>Faktische Wahrhe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Tatsache, Korrelationen, Assoziation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nachvollziehbare Experim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Times New Roman"/>
              </a:rPr>
              <a:t>Emotionale Wahrhe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durch Beobachtung des Gegenü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Interpre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Times New Roman"/>
              </a:rPr>
              <a:t>Moralische Wahrhe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war früher gegeb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heute multiple moralische Wahrhei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44197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ENTSCHEIDUNGSFINDUNG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WIE GEHT D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Entscheidungsfind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Wer entscheid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Wann wird entschied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Worüber sprechen w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Wie machen wir 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WER ENTSCHEIDET?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Entscheidungskompeten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er entscheid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rjenige, der die Entscheidungskompetenz hat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ompetenz beinhaltet 3 Elem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fähigung (Entscheidungsfähigkeit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auftragung (Auftrag von wem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fugnisse (Rechte? Ethik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rten der Entsche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tonomer Entsc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Ärztlicher, pflegerischer... Entsc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formed con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hared decision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utonomer Entsc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Autonomer Entsche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Patient ist entscheidungsfähig </a:t>
            </a:r>
            <a:br>
              <a:rPr sz="3200"/>
            </a:b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und </a:t>
            </a:r>
            <a:br>
              <a:rPr sz="3200"/>
            </a:b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autonomiefäh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4200" y="609480"/>
            <a:ext cx="8715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ärztlicher, pflegerischer... Entsc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440" y="1571400"/>
            <a:ext cx="80010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Medizinischer oder pflegerischer Entscheid 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basierend au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pflegerischen oder ärztlichen Kompetenz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Wissen, Können, H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Auftrag durch den Patien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implizit oder expli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auf Grundlage v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ZGB, OR, ethische Grund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nformed cons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rzt ist Expe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formiert den Patienten über therapeutische Möglichkeit mit allenfalls medizinisch therapeutischer Alter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ibt allenfalls Handlungsoptionen zur Auswah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formationsfluss geht in eine Rich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hared decision making =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artizipative Entscheidungsf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...basiert auf dem bio-psycho-sozialen Menschenbild und beinhaltet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cheidung zweier Personen: Arzt und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e Beteiligung beider am Prozess der Entscheidungsfin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genseitiges Informierung im Verlauf des Proz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stimmung zur Behandlungsentscheidung und Bereitschaft zur aktiven Umse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ntscheidungsfähigkeit Urteilsfähigke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WANN WIRD ENTSCHIEDEN?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Wann wird entschied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898640" indent="-1720800" algn="ctr"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fallmässiger Entschei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98640" indent="-1720800" algn="ctr"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rsorglicher Entschei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98640" indent="-1720800" algn="ctr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ür den Fall das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8640" indent="-1720800" algn="ctr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B. Patientenverfügung, Reanimationsentschei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8640" indent="-1720800" algn="ctr"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t der Entscheid Ze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98640" indent="-1720800" algn="ctr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sollte aber gefällt werd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8640" indent="-1720800" algn="ctr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B. Ernährung ja / ne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8640" indent="-1720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ETHISCHE ENTSCHEIDUNG</a:t>
            </a:r>
            <a:br>
              <a:rPr sz="6600"/>
            </a:br>
            <a:br>
              <a:rPr sz="6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Das „idea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Vorgehen des „Wi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85880" y="1600200"/>
            <a:ext cx="7786800" cy="2052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Die normative Ebene der Entscheidungsfindung</a:t>
            </a:r>
            <a:r>
              <a:rPr b="0" lang="de-CH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Arial"/>
              </a:rPr>
              <a:t>Gesetzesrahmen, Richtlinien der Fachgesellschaften, interdisziplinäre Entscheidungsverfahren (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Wertesystem und Meinungen von Patient, Angehörigen, Team) </a:t>
            </a:r>
            <a:r>
              <a:rPr b="0" lang="de-CH" sz="2400" spc="-1" strike="noStrike">
                <a:solidFill>
                  <a:srgbClr val="ffffff"/>
                </a:solidFill>
                <a:latin typeface="Arial"/>
              </a:rPr>
              <a:t>Einzelfallentsc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85880" y="5181480"/>
            <a:ext cx="7786800" cy="1381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ie Wissensebene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issen (EBM und Erfahrung) des Arztes und des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85880" y="3786120"/>
            <a:ext cx="7786800" cy="1381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Shared decision making z.B. Der Runde Tis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Arial"/>
              </a:rPr>
              <a:t>Die gemeinsame Entscheidungsfindung und Dok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Entscheidung: Wis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nicht nur EB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ondern au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Times New Roman"/>
              </a:rPr>
              <a:t>Erfahrungswi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Times New Roman"/>
              </a:rPr>
              <a:t>Nicht-Wi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Ethische Entscheidungsfind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Viele Model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Bochumer Arbeitsbogen zur medizinethsichen Pr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Ulmer Mod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Nimwegener Meth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7 Schritte ethischer Urteilsbildung nach Baumann-Hölzle/Dialog Eth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Entscheidungsfähigkeit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alog Eth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rundfrage laut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t diese Person in der Lage, die Situation, in der sie sich befindet sowoh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 überblic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nhaltet: glauben und be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 verste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ren Folgen abzuschätz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int: kohärent darüber  zu spre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Entscheidungsfähigkeit</a:t>
            </a:r>
            <a:br>
              <a:rPr sz="44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MC = decision making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fnahmevermö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prachverständ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ähigkeit zur Beurteilung der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motionale Befindlich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smass der Auswirkungen der Entschei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Urteilsfähigk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5640" y="1773000"/>
            <a:ext cx="77025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ist ein juristischer Beg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kein medizinischer Beg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Art. 16 Z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rteilsfähig im Sinne dieses Gesetzes ist jede Person, der nicht wegen ihres Kindesalters, infolge geistiger Behinderung, psychischer Störung, Rausch oder ähnlicher Zustände die Fähigkeit mangelt, vernunftgemäss zu handel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Grundsätzlich wird die Urteilsfähigkeit vorausgesetzt, falls diese angezweifelt wird, muss die Urteilsunfähigkeit geltend gemach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Die Urteilsunfähigkeit stützt sich auf psychiatrische, psychopathologische Sachver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Urteilsfähigkeit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tensohn/Buschmann KS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oraussetzungen der Urteilsfähigkeit ist das kumulative Vorhanden sein v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rkenntnisfähigk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rtungsfähigk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illensbildungsfähigk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euerungsfähigk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ie ist immer eine relative Urteilsfähigkeit – in Bezug auf denjenigen Bereich, um den es in der Eingriffsseinwilligung ge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 prüfen ist immer auch die Einsichtsfähigk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Wichtig ist, das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r alle Möglichkeiten ausschöpfen, um die Entscheidungsfähigkeit dieser Person zu unterstützen und zu erhö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r Patient die Informationen in einer adäquaten Weise erhalten 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ff"/>
                </a:solidFill>
                <a:latin typeface="Arial"/>
              </a:rPr>
              <a:t>Elemente der Entscheidungsfind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743200" y="4876920"/>
            <a:ext cx="3962520" cy="19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200400" y="5334120"/>
            <a:ext cx="312408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issens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edizin/ Pflege/Patient/Angehör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743200" y="3276720"/>
            <a:ext cx="3962520" cy="16761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048120" y="3352680"/>
            <a:ext cx="3352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333399"/>
                </a:solidFill>
                <a:latin typeface="Arial"/>
              </a:rPr>
              <a:t>Kommunikations-problem (Team/ Patient/ Angehör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743200" y="1752480"/>
            <a:ext cx="3962520" cy="21283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Ethisches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ENTSCHEIDUNGSFINDUNG= WAHRHEITSFINDUNG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20:30:48Z</dcterms:created>
  <dc:creator>Steffen Eychmüller</dc:creator>
  <dc:description/>
  <dc:language>en-US</dc:language>
  <cp:lastModifiedBy>Daniel</cp:lastModifiedBy>
  <cp:lastPrinted>2005-05-05T13:37:31Z</cp:lastPrinted>
  <dcterms:modified xsi:type="dcterms:W3CDTF">2015-08-24T20:38:21Z</dcterms:modified>
  <cp:revision>99</cp:revision>
  <dc:subject/>
  <dc:title>PowerPoint-Präsentation</dc:title>
</cp:coreProperties>
</file>